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0A53-7260-44A7-9DF3-713A34808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FAD3-BD7E-4916-AD06-A8E06ED78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CA5F-5BE3-4E6A-BC93-C543B51B7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3784-6BE3-4715-94B1-FF7ABA50A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2D83-F7CC-4D96-AFC5-961227902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515F-6D53-40A5-ABFD-2E46B4C0A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893E-3234-4E3E-924C-6D28C690D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5657-8049-4D41-AFE7-65C2876B0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EFE5-CD68-45DD-B1CB-189CEEC7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181E-241D-4FD4-AB5D-B5EC7155A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6EA4-0336-42CF-AD7E-DA8E2BD6E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931E-CCCA-4031-8012-AD724C59E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99A92EA7-0880-474C-A3BC-84B241923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348F1090-336D-4231-B0F9-65C069982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04400" y="4191120"/>
            <a:ext cx="339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Je ne veux rien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voir passer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DAC3_p272"/>
          <p:cNvPicPr/>
          <p:nvPr/>
        </p:nvPicPr>
        <p:blipFill>
          <a:blip r:embed="rId1"/>
          <a:stretch/>
        </p:blipFill>
        <p:spPr>
          <a:xfrm>
            <a:off x="873000" y="1905120"/>
            <a:ext cx="372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6FAF8BDD-0000-4BA6-8BB9-3BF160DC01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initive is often used to give instructions or commands, as in recipes or on public 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793960"/>
          <a:ext cx="7924680" cy="1244520"/>
        </p:xfrm>
        <a:graphic>
          <a:graphicData uri="http://schemas.openxmlformats.org/drawingml/2006/table">
            <a:tbl>
              <a:tblPr/>
              <a:tblGrid>
                <a:gridCol w="4724280"/>
                <a:gridCol w="3200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four pendant 15 minut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 in the oven for 15 minut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</a:t>
                      </a: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r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not touch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02ADBD5C-94FF-46F2-B9E9-EDAFB9B19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t infinitive is formed with the infinitiv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the past participle of the verb. The past infinitive is often us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è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3182760"/>
          <a:ext cx="8610480" cy="1371600"/>
        </p:xfrm>
        <a:graphic>
          <a:graphicData uri="http://schemas.openxmlformats.org/drawingml/2006/table">
            <a:tbl>
              <a:tblPr/>
              <a:tblGrid>
                <a:gridCol w="4647960"/>
                <a:gridCol w="3962520"/>
              </a:tblGrid>
              <a:tr h="137412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avoir crié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nt deux heures au match, j’avais mal à la gorg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shouting for two hours at the game, my throat hur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er soir, ils ont décidé de voir une pièc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être sort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 night, they decided to see a play after going 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E2CE7FC5-98A4-4C1B-A516-01DD561777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used with the past infinitive agrees just as it would if the helping verb were conjugated. Place object pronouns before the helping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3274920"/>
          <a:ext cx="8305920" cy="1371600"/>
        </p:xfrm>
        <a:graphic>
          <a:graphicData uri="http://schemas.openxmlformats.org/drawingml/2006/table">
            <a:tbl>
              <a:tblPr/>
              <a:tblGrid>
                <a:gridCol w="3886200"/>
                <a:gridCol w="441972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n’aimait plus la comédi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l’avoir v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q fo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didn’t like the comedy any more after seeing it five tim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s’être promené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s la pluie, elle a attrapé un rhu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walking in the rain, she caught a co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A520D47C-51D5-422F-B990-49C81FADD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an infinitive instead of the subjunctive when there is no change of subject between clauses or with impersonal expressions that have a general meaning and no true subj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809800"/>
          <a:ext cx="8381880" cy="3584520"/>
        </p:xfrm>
        <a:graphic>
          <a:graphicData uri="http://schemas.openxmlformats.org/drawingml/2006/table">
            <a:tbl>
              <a:tblPr/>
              <a:tblGrid>
                <a:gridCol w="4003560"/>
                <a:gridCol w="301680"/>
                <a:gridCol w="4076640"/>
              </a:tblGrid>
              <a:tr h="6699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: subject chang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cl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: no subject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cl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2923200">
                <a:tc>
                  <a:txBody>
                    <a:bodyPr lIns="90000" rIns="0" tIns="13716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Papa désire</a:t>
                      </a:r>
                      <a:r>
                        <a:rPr b="1" lang="en-US" sz="1600" spc="-1" strike="noStrike">
                          <a:solidFill>
                            <a:srgbClr val="005da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nous allio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wants us to go to the be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téphanie et Lionel préfèrent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eurs enfants ne regardent p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 la télévision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éphanie and Lionel prefer that their children do not watch too much tele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l vaut mieux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lle mette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norak pour faire du ski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hould wear a parka to go ski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Papa désire aller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wants to go to the be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téphanie et Lionel préfèrent ne pas trop regarder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télévision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éphanie and Lionel prefer to not watch too much tele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l vaut mieux mettre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norak pour faire du ski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best to wear a parka to go ski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5565FE4C-5F2A-4BCB-841C-5E41434590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infinitive can follow many conjugated verbs directly. To negate the conjugated verb, plac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… pa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ma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etc.) around 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609480" y="2438280"/>
            <a:ext cx="7925040" cy="2819520"/>
          </a:xfrm>
          <a:prstGeom prst="roundRect">
            <a:avLst>
              <a:gd name="adj" fmla="val 12931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438280"/>
          <a:ext cx="7772400" cy="2819520"/>
        </p:xfrm>
        <a:graphic>
          <a:graphicData uri="http://schemas.openxmlformats.org/drawingml/2006/table">
            <a:tbl>
              <a:tblPr/>
              <a:tblGrid>
                <a:gridCol w="2324160"/>
                <a:gridCol w="2906640"/>
                <a:gridCol w="2541600"/>
              </a:tblGrid>
              <a:tr h="28195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k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ec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lieve to be (doing someth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si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tes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t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cou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en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nd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to/m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é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op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s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llow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ar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ît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eem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end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ble to/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fé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fer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tend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laim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know how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bl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ppear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hai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ish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6320" y="5410080"/>
          <a:ext cx="8915400" cy="731880"/>
        </p:xfrm>
        <a:graphic>
          <a:graphicData uri="http://schemas.openxmlformats.org/drawingml/2006/table">
            <a:tbl>
              <a:tblPr/>
              <a:tblGrid>
                <a:gridCol w="4190760"/>
                <a:gridCol w="472464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tons ob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billet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’re expecting to get ticket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rétend pas ê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fan de l’équip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doesn’t claim to be a fan of the tea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4310B60A-320B-4EED-A38F-2328A322E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23960" y="1571760"/>
          <a:ext cx="7696080" cy="33811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9764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describes actions occurring in the near future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 d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describes actions that have or ha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r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74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vont marquer un but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 going to score a goa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74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enait de fêter son 100e anniversaire quand il est m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 just celebrated his 100th birthday when he di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C2AECCB6-8CA7-4BA4-9DA9-3AB045BDCC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erbs are used with a preposition, usu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fore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665440"/>
          <a:ext cx="7470720" cy="1371600"/>
        </p:xfrm>
        <a:graphic>
          <a:graphicData uri="http://schemas.openxmlformats.org/drawingml/2006/table">
            <a:tbl>
              <a:tblPr/>
              <a:tblGrid>
                <a:gridCol w="3622680"/>
                <a:gridCol w="38480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meilleurs athlèt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ivent à fi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our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est athletes manage to run the whole ra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’oublient jamais de siffl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nt le mat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never forget to whistle during the ga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C6237A7D-67DD-43EF-A947-AED6735538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place any pronouns before either the conjugated verb or the infinitive, depending on which one they are the objects of. Do not contract the preposi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irect object prono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3479760"/>
          <a:ext cx="8229600" cy="1244520"/>
        </p:xfrm>
        <a:graphic>
          <a:graphicData uri="http://schemas.openxmlformats.org/drawingml/2006/table">
            <a:tbl>
              <a:tblPr/>
              <a:tblGrid>
                <a:gridCol w="4419360"/>
                <a:gridCol w="381024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ai entendue chant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e fo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eard her sing on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bliera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e fa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on’t forget to do i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5385D417-47B7-4E58-86A2-3D6AD2BBA3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gate an infinitive after a conjugated verb, place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before the infinitive.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before any pronouns that accompany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3122640"/>
          <a:ext cx="8763120" cy="1244520"/>
        </p:xfrm>
        <a:graphic>
          <a:graphicData uri="http://schemas.openxmlformats.org/drawingml/2006/table">
            <a:tbl>
              <a:tblPr/>
              <a:tblGrid>
                <a:gridCol w="4038480"/>
                <a:gridCol w="472464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f a décidé 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v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teacher decided not to co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préfé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leur en parl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prefer not to speak to them about it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5D4F0B47-4714-42E0-B43D-4B04007E0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sonal expressions of the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est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re follow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to describe a general opin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faut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vaut mieux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llowed directly by an infinitive to express obl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3503520"/>
          <a:ext cx="8458200" cy="1244520"/>
        </p:xfrm>
        <a:graphic>
          <a:graphicData uri="http://schemas.openxmlformats.org/drawingml/2006/table">
            <a:tbl>
              <a:tblPr/>
              <a:tblGrid>
                <a:gridCol w="4267080"/>
                <a:gridCol w="419112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important de faire 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 gy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 important to work 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faut se détendre 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le trav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s to relax after wor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DD71BF6C-F2B6-4809-8077-DBE1D81071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bs usually take an indirect object bef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Such verbs inclu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i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3098880"/>
          <a:ext cx="8534520" cy="1244520"/>
        </p:xfrm>
        <a:graphic>
          <a:graphicData uri="http://schemas.openxmlformats.org/drawingml/2006/table">
            <a:tbl>
              <a:tblPr/>
              <a:tblGrid>
                <a:gridCol w="4191120"/>
                <a:gridCol w="4343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a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i a demandé d’achet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épinard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m asked him to buy spina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r permettons de rentrer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onze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let them come home at 11 o’cloc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C75F7810-CC90-48F0-9D9C-4B4044C02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participle can act as the subject of a verb in English, but in this case French uses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793960"/>
          <a:ext cx="7924680" cy="1244520"/>
        </p:xfrm>
        <a:graphic>
          <a:graphicData uri="http://schemas.openxmlformats.org/drawingml/2006/table">
            <a:tbl>
              <a:tblPr/>
              <a:tblGrid>
                <a:gridCol w="4724280"/>
                <a:gridCol w="3200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Ê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enfant n’est pas toujours faci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ng a child is not always eas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c’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ing is believ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3-16T12:27:13Z</dcterms:modified>
  <cp:revision>200</cp:revision>
  <dc:subject>D'accord! 3 • Leçon 8: S’évader et s’amuser</dc:subject>
  <dc:title>8.1 Infinitives</dc:title>
</cp:coreProperties>
</file>